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5CBC-37C4-4A0B-B10E-8D5B3EE3C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F5F-1577-494B-B5AB-C559712C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F51B-9439-4E0F-B176-AFA15585C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BF9-BD42-4F33-B630-84EA287D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C988-52DF-4C3D-B652-60F2D01F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2392A-8D4F-44CC-BDD0-20D41BBFE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89C46-A3A5-418B-9B39-DCF6EEE7C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B3C5-6947-436A-BD53-4610F343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BCD0-6C5E-4433-80C5-1A4D3569C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2275-A76D-4E7D-8574-FCABCF77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B6464-A51E-4D41-AA75-909882AE7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1CF-AF0F-4F4A-A4B3-AE2092BB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B505-C5DD-43CD-963E-0F6DF96A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9EBBD-38FE-4CF8-AC9B-522A9A8B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D6FA8-475A-4DFA-875C-8F070BBFF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05EC4-8BE7-4544-A3C4-FA0F14090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4A3D2-1349-42D7-9474-7C33107AA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26B64C-8DEF-4D38-A642-89885A172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4115-AE8E-494D-B313-C9C0F800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26A7A-2A50-4AA3-8FD4-902F1AC8D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2F5B6-C80E-4131-B88F-A5285FFA0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3E555-FEFA-49B8-9F65-2C418194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2FF1-9C3A-4BEE-90D1-3DB142D6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39C93-0991-48FE-B0F2-55F2282D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4100-39BF-498D-8A2A-54E36FF9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80392-863F-4886-BF57-8B5BE726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58DF80-6ECB-4842-B3D9-6DEBD646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E3A29-3600-4AAA-B960-95CC53FFD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60183D-2D0F-4097-9AFC-2959CDA1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ABDB8-EAC8-4DD1-850D-4EA3793F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B17AB-122A-4C09-A2A7-D8D7E028C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BED335-CBEC-48A3-B1ED-4C3E93104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9CF5E-CDC0-478A-87C8-CAFAD706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C1BB-7739-4B11-913F-60DA8061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C23AC1-0156-4D0A-8800-5160F1D21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C4A882-F8D6-44B6-9234-0302124E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384590-C062-4D51-A745-76641115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40C29-9594-4FAC-8A01-8B23D2A14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D1CB1-1627-485A-AC36-64AF4C26D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F72678-5DD5-45C9-9AC4-3B89D2A9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C4BE6-D5CF-4D3C-A5BD-51C2754C8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FB13FE-EA28-4F6E-8FE5-9B0C97F4E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1410BC-38C1-408F-89F0-0C02AC687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41536-BF31-4D44-B12A-70C82CBAE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741-EB72-4513-9605-D3E41F64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962197-2949-48B7-9C38-0F5E11C9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8769F-956F-47D7-8B09-FBB522CF6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BE0871-774B-4B58-8B40-2EAE63D0A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96AF5-7B84-438E-8845-7CF4F1224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D90FAC-8EE5-47C0-BE08-048D5BBE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0F1DA8-8421-4B24-AAFF-E1622A89A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ECEC6-903E-4888-9A49-6057BDB95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6EEF67-52F5-4F06-9F9D-2122F8FE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FB941-0CE4-478A-90BC-41899AC46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0DADFB-ED56-48A0-A6AA-4D3A47C6E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118D-D8E3-4374-8DE6-4BAA5F7D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0EF4E-11AF-4550-BB95-924D8580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6430-87B0-4EEE-96A9-882A598F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2EED-1A0D-4D8B-83E1-199CC0D4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2748-E241-4B08-A1E3-6EFE8357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F8205-7845-4C07-98C2-45E6EDC3341D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0723B-0F45-4740-9AAF-D51CAF4DDC1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2EEE2-6222-4AE4-A6B6-A91D88B3015F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A585-C698-4ED6-942A-5B6936D77673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7F164-FECB-472E-B882-3F58FB73F918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A2CC2-F780-4779-8E09-9CEFC742976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41871-1748-40D6-A74C-D87DCC819F87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EC814-213C-4CFE-B151-893D30D0309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1200-3537-4980-9CC8-39B09A1ABA17}" type="datetime3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July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6297-9F52-4402-BEEB-A6688FBF3C1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jeopardylabs.com/play/unit-2-review24" TargetMode="External"/><Relationship Id="rId2" Type="http://schemas.openxmlformats.org/officeDocument/2006/relationships/hyperlink" Target="http://www.superteachertools.com/jeopardy/usergames/Apr201216/game1334595708.php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évision unité 2 et 3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</a:rPr>
              <a:t>Youpi!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24264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790560"/>
            <a:ext cx="7521840" cy="42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éginald: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directeur de Logi-clique, toujours pol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manque d’argent et risque de perdre s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fais des voyages secret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Fernand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énie de l’informatiqu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Vaniteux, ambitieux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ux contrôler la compagn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a développé des jeux électronique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Cyril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Gardien de sécurité, très sérieux, brusque, et très désagréab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es employés n’ont pas une vie privée au travail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l les surveille tout le temp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2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91800"/>
            <a:ext cx="7521840" cy="5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haracters in cris et frisso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822240" y="639360"/>
            <a:ext cx="752184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ei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ntelligente, superficielle, vanit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lle achète impulsivement beaucoup d’articles très cher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nia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La meilleure programmeus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olitaire, réservée, introverti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mployé modèl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Manu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n’est plus enthousia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Ses idées n’ont pas eu de succès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l est triste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push dir="u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2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es suivis d’une préposition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822240" y="1099800"/>
            <a:ext cx="752184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Rempli les tirets suivants: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Nous décidons ______  commencer par le bureau de Réginald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Vous devez _____ parler à l’inspecteur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Ils apprennent _____ voler les bijoux.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On essayer _____ récupérer les informations.</a:t>
            </a:r>
            <a:br>
              <a:rPr sz="1500"/>
            </a:b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Je continue _____ chercher.</a:t>
            </a:r>
            <a:br>
              <a:rPr sz="1500"/>
            </a:br>
            <a:r>
              <a:rPr b="1" lang="fr-CA" sz="15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TextBox 3"/>
          <p:cNvSpPr/>
          <p:nvPr/>
        </p:nvSpPr>
        <p:spPr>
          <a:xfrm>
            <a:off x="2543040" y="1608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TextBox 4"/>
          <p:cNvSpPr/>
          <p:nvPr/>
        </p:nvSpPr>
        <p:spPr>
          <a:xfrm>
            <a:off x="2345400" y="441180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226960" y="36878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extBox 6"/>
          <p:cNvSpPr/>
          <p:nvPr/>
        </p:nvSpPr>
        <p:spPr>
          <a:xfrm>
            <a:off x="2497680" y="3073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à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wipe dir="l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Passé composé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22000" y="1100160"/>
            <a:ext cx="81406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Franklin Gothic Book"/>
              </a:rPr>
              <a:t>HV + PP = PC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EED TWO PARTS ALWAYS!!!!!!!!!!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Passé Composé with </a:t>
            </a:r>
            <a:r>
              <a:rPr b="1" lang="fr-CA" sz="1600" spc="-1" strike="noStrike" u="sng">
                <a:solidFill>
                  <a:srgbClr val="ff0000"/>
                </a:solidFill>
                <a:uFillTx/>
                <a:latin typeface="Franklin Gothic Book"/>
              </a:rPr>
              <a:t>Avoir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: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Franklin Gothic Book"/>
              </a:rPr>
              <a:t>Verbes réguliers: 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E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É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IR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I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RE </a:t>
            </a:r>
            <a:r>
              <a:rPr b="1" lang="fr-CA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 U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Not on our irregular list we copied from the overhead? Treat it as a regular verb.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Franklin Gothic Book"/>
              </a:rPr>
              <a:t>Verbes irréguliers, including any « compound » verbes (i.e. : commettre, apprendre, souffrir)</a:t>
            </a: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573120" indent="-2858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split dir="out" orient="ver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7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2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7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ris et frissons jeopardy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1"/>
              </a:rPr>
              <a:t>http://jeopardylabs.com/play/unit-2-review24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5f5f5f"/>
                </a:solidFill>
                <a:uFillTx/>
                <a:latin typeface="Franklin Gothic Book"/>
                <a:hlinkClick r:id="rId2"/>
              </a:rPr>
              <a:t>http://www.superteachertools.com/jeopardy/usergames/Apr201216/game1334595708.php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 spd="slow">
    <p:fade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03:28:19Z</dcterms:created>
  <dc:creator>Sarah</dc:creator>
  <dc:description/>
  <dc:language>en-US</dc:language>
  <cp:lastModifiedBy>Sarah</cp:lastModifiedBy>
  <dcterms:modified xsi:type="dcterms:W3CDTF">2012-12-11T20:30:40Z</dcterms:modified>
  <cp:revision>15</cp:revision>
  <dc:subject/>
  <dc:title>Révision unité 2 et 3</dc:title>
</cp:coreProperties>
</file>